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086810"/>
        <c:axId val="54057599"/>
      </c:barChart>
      <c:catAx>
        <c:axId val="510868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057599"/>
        <c:crosses val="autoZero"/>
        <c:auto val="1"/>
        <c:lblAlgn val="ctr"/>
        <c:lblOffset val="100"/>
        <c:noMultiLvlLbl val="0"/>
      </c:catAx>
      <c:valAx>
        <c:axId val="540575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0868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710A-043A-4660-9487-0B7948BC7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E4DE-749A-433A-89FB-8466AECA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9956-71FF-4C0C-8ABD-C929495B3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94E7-7641-495E-88D5-A2B936448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5B0A-055E-43B8-B383-9082E82A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6144-706D-46C8-B5B1-4DAC1FD4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1C1A-E380-4E01-87B3-CB8B73D7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E601-48B7-42FD-8709-43458874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5689-283B-4E12-A5DE-BD5A4A76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C87C-9761-4838-8039-787A54F1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C9A5-5625-422A-9515-01C2825A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4732-A08E-4D47-AA01-8F22A330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3403CD-084B-451A-90FD-C861F9F6CE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