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46985"/>
        <c:axId val="49847932"/>
      </c:barChart>
      <c:catAx>
        <c:axId val="35469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847932"/>
        <c:crosses val="autoZero"/>
        <c:auto val="1"/>
        <c:lblAlgn val="ctr"/>
        <c:lblOffset val="100"/>
        <c:noMultiLvlLbl val="0"/>
      </c:catAx>
      <c:valAx>
        <c:axId val="498479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469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1A5D-9437-4BC9-8A85-76016D3BF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E552-F23A-4462-8A57-13505BAD5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AE55-BE5A-4178-AADD-D425586C8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AAD7-8118-4AB7-8E1C-B13D3A66F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2017-09E2-4B46-A00B-F619D3CB3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E1F5-F8E1-4D75-847D-28E735959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15EB-EE7A-4874-8108-B5328781D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4CD2-330D-44CF-9869-8C995D65F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87B9-ED0F-4FD3-B42A-E68773449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C6A4-1133-4E5C-ADC1-408F904A0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804E-66BF-4230-B76A-B653FB96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70F8-E15F-46C9-A368-1A17BDD3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566B45-06B8-49BA-9BC5-D9E46105D3A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